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08E-4ED8-408B-9C6E-41061CA1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93C-D2A4-44A3-A3BC-566E10A3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EA1-C4D2-4FA3-8CB8-C8CC807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1BF-DEE1-4C9F-B663-6E05C12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A33C-92BE-49E7-8F78-D01EBDF6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8624-959F-4286-8CD6-D137DAA9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9464-4A96-417F-B9C5-5352DE9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CEC-D9B2-46AA-814A-813FDE4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67F-1DA5-4999-BAFC-4493181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23C-31C8-47B3-A4B5-ABBA3E0E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679-C618-431E-8F21-BB66236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C6F-B1E0-4EDD-B8C7-77CDD64D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D584-7D23-4109-9B89-092D3AA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3784-B3EF-4257-B53E-E50D1D3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FE6A-BEF9-4630-B34C-C7A13B5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F9DF-DF7A-48F3-8C3C-EDB343E0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85BB-D8B8-4DA8-BC85-53C9A5D3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33E-30A1-4B87-BF7F-F9575AB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6B9-E1DE-4D5C-820C-1E29AF4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15F-F3A9-469B-82E0-B45310F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1AD-619B-416D-A712-5F50C47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0BE-95F3-4E79-B8A4-23CF4612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4B2-2EBA-4E05-A978-886C41A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463-F823-4059-AD09-7D84B7B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D2078-9BFB-4B9A-8A88-7A1678196C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7D6BE-13DC-4900-8E02-D628A5544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11150640" y="0"/>
            <a:ext cx="514440" cy="1081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6613560"/>
            <a:ext cx="1219212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2D712-B1C7-4D69-A240-E268B5F3F0A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15650-7E40-4A34-B619-9E6187E42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111320" y="431640"/>
            <a:ext cx="87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 省赛低频国赛高频考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62080" y="1558800"/>
            <a:ext cx="3492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基本原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编程测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3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代码模块化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22760" y="1558800"/>
            <a:ext cx="25862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编程测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230040" y="52560"/>
            <a:ext cx="4861080" cy="31971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/>
          <p:cNvPicPr/>
          <p:nvPr/>
        </p:nvPicPr>
        <p:blipFill>
          <a:blip r:embed="rId2"/>
          <a:srcRect l="0" t="0" r="0" b="47249"/>
          <a:stretch/>
        </p:blipFill>
        <p:spPr>
          <a:xfrm>
            <a:off x="127080" y="3195720"/>
            <a:ext cx="535284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"/>
          <p:cNvPicPr/>
          <p:nvPr/>
        </p:nvPicPr>
        <p:blipFill>
          <a:blip r:embed="rId3"/>
          <a:stretch/>
        </p:blipFill>
        <p:spPr>
          <a:xfrm>
            <a:off x="6046920" y="4057560"/>
            <a:ext cx="3286080" cy="3333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" descr=""/>
          <p:cNvPicPr/>
          <p:nvPr/>
        </p:nvPicPr>
        <p:blipFill>
          <a:blip r:embed="rId4"/>
          <a:stretch/>
        </p:blipFill>
        <p:spPr>
          <a:xfrm>
            <a:off x="5959440" y="4330800"/>
            <a:ext cx="4705560" cy="1724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"/>
          <p:cNvPicPr/>
          <p:nvPr/>
        </p:nvPicPr>
        <p:blipFill>
          <a:blip r:embed="rId5"/>
          <a:srcRect l="0" t="52335" r="0" b="0"/>
          <a:stretch/>
        </p:blipFill>
        <p:spPr>
          <a:xfrm>
            <a:off x="6129360" y="360360"/>
            <a:ext cx="5302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"/>
          <p:cNvSpPr/>
          <p:nvPr/>
        </p:nvSpPr>
        <p:spPr>
          <a:xfrm>
            <a:off x="684360" y="24912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684360" y="24912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2" descr=""/>
          <p:cNvPicPr/>
          <p:nvPr/>
        </p:nvPicPr>
        <p:blipFill>
          <a:blip r:embed="rId1"/>
          <a:stretch/>
        </p:blipFill>
        <p:spPr>
          <a:xfrm>
            <a:off x="282600" y="1311120"/>
            <a:ext cx="5489640" cy="41562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5772240" y="1311120"/>
            <a:ext cx="5742000" cy="35514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"/>
          <p:cNvPicPr/>
          <p:nvPr/>
        </p:nvPicPr>
        <p:blipFill>
          <a:blip r:embed="rId3"/>
          <a:stretch/>
        </p:blipFill>
        <p:spPr>
          <a:xfrm>
            <a:off x="6578640" y="5324400"/>
            <a:ext cx="24382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1465200" y="853920"/>
            <a:ext cx="9163080" cy="4959360"/>
          </a:xfrm>
          <a:prstGeom prst="rect">
            <a:avLst/>
          </a:prstGeom>
          <a:ln w="0">
            <a:noFill/>
          </a:ln>
        </p:spPr>
      </p:pic>
      <p:sp>
        <p:nvSpPr>
          <p:cNvPr id="122" name="矩形 2"/>
          <p:cNvSpPr/>
          <p:nvPr/>
        </p:nvSpPr>
        <p:spPr>
          <a:xfrm>
            <a:off x="684360" y="24912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374760" y="3678120"/>
            <a:ext cx="4268520" cy="26766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6405480" y="249120"/>
            <a:ext cx="3854520" cy="2960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3"/>
          <a:stretch/>
        </p:blipFill>
        <p:spPr>
          <a:xfrm>
            <a:off x="6400800" y="3571920"/>
            <a:ext cx="3859200" cy="2889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"/>
          <p:cNvPicPr/>
          <p:nvPr/>
        </p:nvPicPr>
        <p:blipFill>
          <a:blip r:embed="rId4"/>
          <a:stretch/>
        </p:blipFill>
        <p:spPr>
          <a:xfrm>
            <a:off x="374760" y="1031760"/>
            <a:ext cx="3493800" cy="227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7" name="矩形 5"/>
          <p:cNvSpPr/>
          <p:nvPr/>
        </p:nvSpPr>
        <p:spPr>
          <a:xfrm>
            <a:off x="684360" y="24912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"/>
          <p:cNvPicPr/>
          <p:nvPr/>
        </p:nvPicPr>
        <p:blipFill>
          <a:blip r:embed="rId1"/>
          <a:srcRect l="0" t="22127" r="0" b="0"/>
          <a:stretch/>
        </p:blipFill>
        <p:spPr>
          <a:xfrm>
            <a:off x="374760" y="1665360"/>
            <a:ext cx="11210760" cy="387972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684360" y="24912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897120" y="48888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声波模块编程测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722120" y="3270240"/>
            <a:ext cx="26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，数码管上显示出超声波测距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5359320" y="2803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756000" y="4888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2071800" y="1814400"/>
            <a:ext cx="80485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544680" y="1144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284040" y="604800"/>
            <a:ext cx="6718320" cy="5902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2"/>
          <a:stretch/>
        </p:blipFill>
        <p:spPr>
          <a:xfrm>
            <a:off x="6381720" y="573120"/>
            <a:ext cx="5810400" cy="57848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"/>
          <p:cNvPicPr/>
          <p:nvPr/>
        </p:nvPicPr>
        <p:blipFill>
          <a:blip r:embed="rId3"/>
          <a:stretch/>
        </p:blipFill>
        <p:spPr>
          <a:xfrm>
            <a:off x="6253200" y="114480"/>
            <a:ext cx="440064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756000" y="4888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基本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3133800" y="2124000"/>
            <a:ext cx="5924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756000" y="4888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编程测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1071720" y="1562040"/>
            <a:ext cx="1004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756000" y="4888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编程测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6558120" y="947880"/>
            <a:ext cx="5406840" cy="2625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6426360" y="3706920"/>
            <a:ext cx="4524120" cy="542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" descr=""/>
          <p:cNvPicPr/>
          <p:nvPr/>
        </p:nvPicPr>
        <p:blipFill>
          <a:blip r:embed="rId3"/>
          <a:stretch/>
        </p:blipFill>
        <p:spPr>
          <a:xfrm>
            <a:off x="6558120" y="4537080"/>
            <a:ext cx="4260600" cy="20048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" descr=""/>
          <p:cNvPicPr/>
          <p:nvPr/>
        </p:nvPicPr>
        <p:blipFill>
          <a:blip r:embed="rId4"/>
          <a:stretch/>
        </p:blipFill>
        <p:spPr>
          <a:xfrm>
            <a:off x="0" y="514440"/>
            <a:ext cx="6186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756000" y="48888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编程测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505880" y="148104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，回显函数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3471840" y="1481040"/>
            <a:ext cx="7886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2830680" y="1079640"/>
            <a:ext cx="6643440" cy="503208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897120" y="48888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代码模块化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897120" y="48888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口代码模块化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1"/>
          <a:stretch/>
        </p:blipFill>
        <p:spPr>
          <a:xfrm>
            <a:off x="317520" y="1312920"/>
            <a:ext cx="5170320" cy="4375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"/>
          <p:cNvPicPr/>
          <p:nvPr/>
        </p:nvPicPr>
        <p:blipFill>
          <a:blip r:embed="rId2"/>
          <a:stretch/>
        </p:blipFill>
        <p:spPr>
          <a:xfrm>
            <a:off x="6283440" y="555480"/>
            <a:ext cx="4257720" cy="233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"/>
          <p:cNvPicPr/>
          <p:nvPr/>
        </p:nvPicPr>
        <p:blipFill>
          <a:blip r:embed="rId3"/>
          <a:stretch/>
        </p:blipFill>
        <p:spPr>
          <a:xfrm>
            <a:off x="6283440" y="3157560"/>
            <a:ext cx="5553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15:11:17Z</dcterms:created>
  <dc:creator>爆活虾</dc:creator>
  <dc:description/>
  <dc:language>en-US</dc:language>
  <cp:lastModifiedBy>沐凌枫</cp:lastModifiedBy>
  <dcterms:modified xsi:type="dcterms:W3CDTF">2022-04-08T14:54:23Z</dcterms:modified>
  <cp:revision>1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4</vt:lpwstr>
  </property>
</Properties>
</file>